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507-A745-4A6B-806E-C6107E79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EF8-5E13-4F63-9A8F-2E8E2A72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EB3-1782-4A82-A9BD-558899F1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B54-AEB0-4E78-9DB5-6CAB3EB1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9CA2-EE95-4638-92DB-4BF04FA1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ED5-729B-4117-94E6-6AE5E04B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8CA-79E3-47EE-A890-249A3570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99C-50E3-4653-A238-1AB14669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49A-7CE3-4331-B695-41A1A94B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011-6192-4E61-8773-6857006B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8B87-B816-4229-A5B3-A546DE6F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7C2F-CEB7-4DA9-A98D-B28AEDBC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1DA1-3D9B-4FCC-B8C0-4569DD19F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radfitzpatrick.com/stock_illustration/images/cartoon_cow_001.gif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cows make Bristol disapp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62320" y="2238480"/>
            <a:ext cx="26193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it’s not just “foreign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Tim and Moby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brainpop.com/science/populationsresourcesandenvironment/globalwarmin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brainpop.com/science/populationsresourcesandenvironment/greenhouseeffec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 sea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24000" y="1592280"/>
            <a:ext cx="41767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ch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epa.gov/climatechange/kids/global_warming_version2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net.org/globalwarming/sea_level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what are you going to do??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vid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a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a member of this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years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ntarctica melts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75596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cows make Bristol disapp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62320" y="2238480"/>
            <a:ext cx="2619360" cy="2381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2565360"/>
            <a:ext cx="1047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 fabulous place for a honeymoon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In Affiliation with AllPosters.com"/>
          <p:cNvPicPr/>
          <p:nvPr/>
        </p:nvPicPr>
        <p:blipFill>
          <a:blip r:embed="rId1"/>
          <a:stretch/>
        </p:blipFill>
        <p:spPr>
          <a:xfrm>
            <a:off x="2556000" y="1916280"/>
            <a:ext cx="416556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 fabulous place for a honeymoon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In Affiliation with AllPosters.com"/>
          <p:cNvPicPr/>
          <p:nvPr/>
        </p:nvPicPr>
        <p:blipFill>
          <a:blip r:embed="rId1"/>
          <a:stretch/>
        </p:blipFill>
        <p:spPr>
          <a:xfrm>
            <a:off x="2556000" y="1916280"/>
            <a:ext cx="4165560" cy="2776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847960" y="2789280"/>
            <a:ext cx="3448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et there quick....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908352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what’s threatening the Mald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e ice mel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what’s threatening the Mald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ice in the polar ice caps melts, our sea levels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elting the 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what’s threatening the Mald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ice in the polar ice caps melts, our sea levels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uses the world to get ho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what’s threatening the Mald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ice in the polar ice caps melts, our sea levels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dioxide and m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08720" y="3789360"/>
            <a:ext cx="792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458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ows……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4:32:41Z</dcterms:created>
  <dc:creator>sthobbsc</dc:creator>
  <dc:description/>
  <dc:language>en-US</dc:language>
  <cp:lastModifiedBy>sthobbsc</cp:lastModifiedBy>
  <dcterms:modified xsi:type="dcterms:W3CDTF">2007-02-13T10:31:01Z</dcterms:modified>
  <cp:revision>4</cp:revision>
  <dc:subject/>
  <dc:title>Can cows make Bristol disappear?</dc:title>
</cp:coreProperties>
</file>